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0BED-DE03-4C3E-B079-743502D98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5C07-3B43-43DA-A182-1CEB0088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395-D302-4B7C-918F-88160BAEE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BBB-E0AD-4FF9-AEC6-DBAA3DCE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DDE1-3F52-4726-832F-58FED5EB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E26-FAD4-4765-A747-2FE3C981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D76-454F-4E88-8FC8-B297A111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0723-CC6E-42AC-BB2E-5160661FB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32C7-AD34-4A07-84EE-D7CAB128B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51B-E066-4DEE-9FE3-F9A5DD1E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93A-0202-4BE2-ABE1-83703D1B1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D274-2F38-4241-A6BB-822A5376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A3D5-C878-4E05-9133-4913C9FF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092-819F-4E00-8E32-1FE55DD7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Rise of Big 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Rise of Big 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912960" y="182736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different methods that businesses used to increase their profi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public debate over the impact of big busin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the government took steps to block abuses of corporate power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6"/>
          <p:cNvSpPr/>
          <p:nvPr/>
        </p:nvSpPr>
        <p:spPr>
          <a:xfrm>
            <a:off x="6477120" y="1600200"/>
            <a:ext cx="19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aptains of indust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who served the nation and made prices of goods cheape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85800" y="1600200"/>
            <a:ext cx="22096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re the tycoons 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obber bar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who swindled the poor and drove small businesses under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1" descr="HSUS_ch13_s2_Tycoons"/>
          <p:cNvPicPr/>
          <p:nvPr/>
        </p:nvPicPr>
        <p:blipFill>
          <a:blip r:embed="rId1"/>
          <a:stretch/>
        </p:blipFill>
        <p:spPr>
          <a:xfrm>
            <a:off x="3114720" y="1752480"/>
            <a:ext cx="2914560" cy="24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HSUS_ch13_s2_QMark"/>
          <p:cNvPicPr/>
          <p:nvPr/>
        </p:nvPicPr>
        <p:blipFill>
          <a:blip r:embed="rId2"/>
          <a:stretch/>
        </p:blipFill>
        <p:spPr>
          <a:xfrm>
            <a:off x="4038480" y="4495680"/>
            <a:ext cx="94464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2"/>
          <p:cNvSpPr/>
          <p:nvPr/>
        </p:nvSpPr>
        <p:spPr>
          <a:xfrm>
            <a:off x="947880" y="144792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ig Business Is Bad for Small Businesse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9" descr="hsus_ch13_s3_Monopoly"/>
          <p:cNvPicPr/>
          <p:nvPr/>
        </p:nvPicPr>
        <p:blipFill>
          <a:blip r:embed="rId1"/>
          <a:stretch/>
        </p:blipFill>
        <p:spPr>
          <a:xfrm>
            <a:off x="1652760" y="2133720"/>
            <a:ext cx="5848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2"/>
          <p:cNvSpPr/>
          <p:nvPr/>
        </p:nvSpPr>
        <p:spPr>
          <a:xfrm>
            <a:off x="912960" y="166356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r Is Big Business Good for the 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828800" y="286560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job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666880" y="37036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fo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duct innov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886200" y="46944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ncially supports universities, libraries, and museu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33"/>
          <p:cNvSpPr/>
          <p:nvPr/>
        </p:nvSpPr>
        <p:spPr>
          <a:xfrm rot="5400000">
            <a:off x="1553760" y="2971800"/>
            <a:ext cx="274680" cy="274680"/>
          </a:xfrm>
          <a:prstGeom prst="flowChartExtra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9898ba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36"/>
          <p:cNvSpPr/>
          <p:nvPr/>
        </p:nvSpPr>
        <p:spPr>
          <a:xfrm rot="5400000">
            <a:off x="2315880" y="3809880"/>
            <a:ext cx="274680" cy="274680"/>
          </a:xfrm>
          <a:prstGeom prst="flowChartExtra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9898ba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7"/>
          <p:cNvSpPr/>
          <p:nvPr/>
        </p:nvSpPr>
        <p:spPr>
          <a:xfrm rot="5400000">
            <a:off x="3580920" y="4800600"/>
            <a:ext cx="274680" cy="274680"/>
          </a:xfrm>
          <a:prstGeom prst="flowChartExtra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9898ba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990720" y="4876920"/>
            <a:ext cx="708660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76240" y="4952880"/>
            <a:ext cx="73152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the belief that wealth wa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asure of a person’s value and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o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ho had wealth were the most “fit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679320" y="-46080"/>
            <a:ext cx="27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909720" y="1181160"/>
            <a:ext cx="7315200" cy="13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rvival of the Fitte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Darwin’s idea of evolution of spe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914400" y="28494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ed to American capita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914400" y="391644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d to the idea of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 Darwin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4"/>
          <p:cNvSpPr/>
          <p:nvPr/>
        </p:nvSpPr>
        <p:spPr>
          <a:xfrm flipV="1" rot="5400000">
            <a:off x="4298040" y="2316960"/>
            <a:ext cx="547920" cy="457200"/>
          </a:xfrm>
          <a:prstGeom prst="rightArrow">
            <a:avLst>
              <a:gd name="adj1" fmla="val 50000"/>
              <a:gd name="adj2" fmla="val 29961"/>
            </a:avLst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5"/>
          <p:cNvSpPr/>
          <p:nvPr/>
        </p:nvSpPr>
        <p:spPr>
          <a:xfrm flipV="1" rot="5400000">
            <a:off x="4305240" y="339084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6"/>
          <p:cNvSpPr/>
          <p:nvPr/>
        </p:nvSpPr>
        <p:spPr>
          <a:xfrm flipV="1" rot="5400000">
            <a:off x="4305240" y="445644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1"/>
          <p:cNvSpPr/>
          <p:nvPr/>
        </p:nvSpPr>
        <p:spPr>
          <a:xfrm flipH="1" rot="5400000">
            <a:off x="609120" y="1523880"/>
            <a:ext cx="3810240" cy="4267440"/>
          </a:xfrm>
          <a:prstGeom prst="upArrowCallout">
            <a:avLst>
              <a:gd name="adj1" fmla="val 26419"/>
              <a:gd name="adj2" fmla="val 24292"/>
              <a:gd name="adj3" fmla="val 19704"/>
              <a:gd name="adj4" fmla="val 54973"/>
            </a:avLst>
          </a:prstGeom>
          <a:gradFill rotWithShape="0">
            <a:gsLst>
              <a:gs pos="0">
                <a:srgbClr val="d7d7d7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333399"/>
            </a:solidFill>
            <a:miter/>
          </a:ln>
          <a:effectLst>
            <a:outerShdw dist="40186" dir="4303641" blurRad="0" rotWithShape="0">
              <a:srgbClr val="b2b2b2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685800" y="1905120"/>
            <a:ext cx="2590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cial Darwinis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elieved government should stay out of private busine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ought it was wrong to use public funds to assist the p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25"/>
          <p:cNvSpPr/>
          <p:nvPr/>
        </p:nvSpPr>
        <p:spPr>
          <a:xfrm flipH="1" rot="16200000">
            <a:off x="4837320" y="1638000"/>
            <a:ext cx="3810240" cy="4038840"/>
          </a:xfrm>
          <a:prstGeom prst="upArrowCallout">
            <a:avLst>
              <a:gd name="adj1" fmla="val 25002"/>
              <a:gd name="adj2" fmla="val 25000"/>
              <a:gd name="adj3" fmla="val 17667"/>
              <a:gd name="adj4" fmla="val 56353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333399"/>
            </a:solidFill>
            <a:miter/>
          </a:ln>
          <a:effectLst>
            <a:outerShdw dist="40186" dir="4303641" blurRad="0" rotWithShape="0">
              <a:srgbClr val="b2b2b2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6172200" y="2057400"/>
            <a:ext cx="25146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ns who worried about the methods of industrialists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alled for federal regulation of business practi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8"/>
          <p:cNvSpPr/>
          <p:nvPr/>
        </p:nvSpPr>
        <p:spPr>
          <a:xfrm>
            <a:off x="1066680" y="2971800"/>
            <a:ext cx="7010640" cy="2743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95280" y="3281400"/>
          <a:ext cx="6629400" cy="2049480"/>
        </p:xfrm>
        <a:graphic>
          <a:graphicData uri="http://schemas.openxmlformats.org/drawingml/2006/table">
            <a:tbl>
              <a:tblPr/>
              <a:tblGrid>
                <a:gridCol w="1905120"/>
                <a:gridCol w="4724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state Commerce Comm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saw railroad 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erman Antitrust 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sed by the Senate in 1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awed trusts that restrained trade among several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21"/>
          <p:cNvSpPr/>
          <p:nvPr/>
        </p:nvSpPr>
        <p:spPr>
          <a:xfrm>
            <a:off x="1295280" y="144792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C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herman Antitrust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gan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end toward government limi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corporate pow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912960" y="1828800"/>
            <a:ext cx="76197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rpo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form of group ownership in which a number of people share the ownership of a bus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onopol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mplete control of a product or 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arte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arrangement in which businesses making the same product agree to limit production to keep prices hi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hn D. Rockefell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oil tycoon who made deals with railroads to increase his pro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2960" y="1763640"/>
            <a:ext cx="7696080" cy="36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izontal integ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ystem of consolidating many firms in the same business to lower productio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ru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ituation in which companies assign their stock to a board of trustees, who combine them into a new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ndrew Carnegi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teel tycoon who used vertical integration to increase his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ertical integ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actice of gaining control of many different businesses that make up all phases of a product’s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1722600"/>
            <a:ext cx="762012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 Darwinism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application of Charles  Darwin’s work which held that wealth was a  measure of one’s inherent value and those who had it were the most “f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CC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Interstate Commerce Commission, a government body set up to oversee railroad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herman Antitrust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ill passed in 1890 which outlawed any trust that operated “in restraint of trade or commerce among the several stat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1297080" y="1600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big business shape the American economy in the late 1800s and early 1900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297080" y="3156120"/>
            <a:ext cx="73134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growth of big business in the late 1800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nged American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ise of business empires turned the United States into a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conomically powerful n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5" descr="HSUS09_EQ_logoSmall"/>
          <p:cNvPicPr/>
          <p:nvPr/>
        </p:nvPicPr>
        <p:blipFill>
          <a:blip r:embed="rId1"/>
          <a:stretch/>
        </p:blipFill>
        <p:spPr>
          <a:xfrm>
            <a:off x="752400" y="17082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29"/>
          <p:cNvSpPr/>
          <p:nvPr/>
        </p:nvSpPr>
        <p:spPr>
          <a:xfrm>
            <a:off x="8380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ustrialization changed how businesses were ru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852480" y="2133720"/>
            <a:ext cx="7620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leader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mbined fu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resour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stors form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rpora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tected them from l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re than original investm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rporation coul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operate in different reg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9"/>
          <p:cNvSpPr/>
          <p:nvPr/>
        </p:nvSpPr>
        <p:spPr>
          <a:xfrm>
            <a:off x="5715000" y="1646280"/>
            <a:ext cx="32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 worked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ximize profi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1"/>
          <p:cNvSpPr/>
          <p:nvPr/>
        </p:nvSpPr>
        <p:spPr>
          <a:xfrm>
            <a:off x="5638680" y="3139920"/>
            <a:ext cx="281952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173160">
              <a:spcAft>
                <a:spcPts val="689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ying workers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ow w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173160">
              <a:spcAft>
                <a:spcPts val="689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y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ower pric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raw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173160">
              <a:spcAft>
                <a:spcPts val="689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search lab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6"/>
          <p:cNvSpPr/>
          <p:nvPr/>
        </p:nvSpPr>
        <p:spPr>
          <a:xfrm>
            <a:off x="1523880" y="4906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 Oil Fa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9" descr="HSUS_ch13_s2_factory"/>
          <p:cNvPicPr/>
          <p:nvPr/>
        </p:nvPicPr>
        <p:blipFill>
          <a:blip r:embed="rId1"/>
          <a:stretch/>
        </p:blipFill>
        <p:spPr>
          <a:xfrm>
            <a:off x="304920" y="2038320"/>
            <a:ext cx="53211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9"/>
          <p:cNvSpPr/>
          <p:nvPr/>
        </p:nvSpPr>
        <p:spPr>
          <a:xfrm>
            <a:off x="838080" y="16002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rporations used strategies to eliminate competition and decrease co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20"/>
          <p:cNvSpPr/>
          <p:nvPr/>
        </p:nvSpPr>
        <p:spPr>
          <a:xfrm flipH="1" rot="5400000">
            <a:off x="2208960" y="1752480"/>
            <a:ext cx="914400" cy="3352680"/>
          </a:xfrm>
          <a:prstGeom prst="upArrowCallout">
            <a:avLst>
              <a:gd name="adj1" fmla="val 100009"/>
              <a:gd name="adj2" fmla="val 50000"/>
              <a:gd name="adj3" fmla="val 58138"/>
              <a:gd name="adj4" fmla="val 67475"/>
            </a:avLst>
          </a:prstGeom>
          <a:gradFill rotWithShape="0">
            <a:gsLst>
              <a:gs pos="0">
                <a:srgbClr val="ffd88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333399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143000" y="30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onopol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arte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629240" y="304812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itors forced out of bus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22"/>
          <p:cNvSpPr/>
          <p:nvPr/>
        </p:nvSpPr>
        <p:spPr>
          <a:xfrm flipH="1" rot="5400000">
            <a:off x="2783520" y="2630880"/>
            <a:ext cx="1066680" cy="4643280"/>
          </a:xfrm>
          <a:prstGeom prst="upArrowCallout">
            <a:avLst>
              <a:gd name="adj1" fmla="val 100009"/>
              <a:gd name="adj2" fmla="val 50000"/>
              <a:gd name="adj3" fmla="val 69024"/>
              <a:gd name="adj4" fmla="val 67475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333399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1143000" y="44956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izontal inte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ertical inte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5867280" y="4424400"/>
            <a:ext cx="32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tter control of production an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s reduc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66"/>
          <p:cNvSpPr/>
          <p:nvPr/>
        </p:nvSpPr>
        <p:spPr>
          <a:xfrm>
            <a:off x="1219320" y="1828800"/>
            <a:ext cx="6553080" cy="396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c5ff"/>
              </a:gs>
            </a:gsLst>
            <a:lin ang="5400000"/>
          </a:gradFill>
          <a:ln w="25560">
            <a:solidFill>
              <a:srgbClr val="9898ba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26"/>
          <p:cNvSpPr/>
          <p:nvPr/>
        </p:nvSpPr>
        <p:spPr>
          <a:xfrm>
            <a:off x="1508040" y="121932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coons of the Late 1800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1905120"/>
          <a:ext cx="6172200" cy="3627360"/>
        </p:xfrm>
        <a:graphic>
          <a:graphicData uri="http://schemas.openxmlformats.org/drawingml/2006/table">
            <a:tbl>
              <a:tblPr/>
              <a:tblGrid>
                <a:gridCol w="3733920"/>
                <a:gridCol w="243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usiness lea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>
                      <a:noFill/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hn D. Rockefe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w Carneg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nelius Vanderbil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 w="5760">
                      <a:solidFill>
                        <a:srgbClr val="9898b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lroa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 w="5760">
                      <a:solidFill>
                        <a:srgbClr val="9898b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92" descr="RR_Icon"/>
          <p:cNvPicPr/>
          <p:nvPr/>
        </p:nvPicPr>
        <p:blipFill>
          <a:blip r:embed="rId1"/>
          <a:srcRect l="8262" t="1198" r="9275" b="0"/>
          <a:stretch/>
        </p:blipFill>
        <p:spPr>
          <a:xfrm>
            <a:off x="6620040" y="4786200"/>
            <a:ext cx="761760" cy="771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Picture 393" descr="Oil_Icon"/>
          <p:cNvPicPr/>
          <p:nvPr/>
        </p:nvPicPr>
        <p:blipFill>
          <a:blip r:embed="rId2"/>
          <a:srcRect l="9102" t="0" r="0" b="0"/>
          <a:stretch/>
        </p:blipFill>
        <p:spPr>
          <a:xfrm>
            <a:off x="6591240" y="2314440"/>
            <a:ext cx="762120" cy="866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394" descr="Steel_Icon"/>
          <p:cNvPicPr/>
          <p:nvPr/>
        </p:nvPicPr>
        <p:blipFill>
          <a:blip r:embed="rId3"/>
          <a:srcRect l="0" t="0" r="-6603" b="0"/>
          <a:stretch/>
        </p:blipFill>
        <p:spPr>
          <a:xfrm>
            <a:off x="6624720" y="3562200"/>
            <a:ext cx="761760" cy="6955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6:23Z</dcterms:modified>
  <cp:revision>155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